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D5AB-A4AE-49E2-BE3D-7EAFD9CC48F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CC9E-591E-4C3A-A12D-27DFBC79C7B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32B-04A5-45DE-A7E1-F2C22585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D53-D484-4209-98DE-ED78095F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9DF-09C1-40C6-B0A4-E85AA523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C7E-D022-49A0-AF89-2CE3C0D5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E04-470D-4FA6-886F-900BBD1C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3CF-8A5D-4111-BCCB-15F3E45C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B80-F015-44A8-B70E-4BD4A9B9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604-4C9C-4AFB-8FC4-BFC16A35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183-03A2-46A2-BCEA-B37C675E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646-EE79-4D2B-9F61-3B09E620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A44-B6D8-485E-9085-DF8C378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208-2F2A-4B09-8576-3F59AEF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5F12-E0FE-4927-BFB3-E4E52A38985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46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470240"/>
          </a:xfrm>
          <a:prstGeom prst="rect">
            <a:avLst/>
          </a:prstGeom>
          <a:solidFill>
            <a:srgbClr val="c6469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RY ISLAND BUFFALO JUMP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63360" y="-835200"/>
            <a:ext cx="26481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216000" y="-68256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368280" y="-53028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556000" y="3305160"/>
            <a:ext cx="4803480" cy="3127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y Er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Title 1"/>
          <p:cNvGrpSpPr/>
          <p:nvPr/>
        </p:nvGrpSpPr>
        <p:grpSpPr>
          <a:xfrm>
            <a:off x="457200" y="274680"/>
            <a:ext cx="8229600" cy="1146240"/>
            <a:chOff x="457200" y="274680"/>
            <a:chExt cx="8229600" cy="1146240"/>
          </a:xfrm>
        </p:grpSpPr>
        <p:pic>
          <p:nvPicPr>
            <p:cNvPr id="55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274680"/>
              <a:ext cx="82296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400" spc="-1" strike="noStrike">
                  <a:solidFill>
                    <a:srgbClr val="3366ff"/>
                  </a:solidFill>
                  <a:latin typeface="Calibri"/>
                </a:rPr>
                <a:t>What is dry island????????????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1"/>
          <p:cNvSpPr/>
          <p:nvPr/>
        </p:nvSpPr>
        <p:spPr>
          <a:xfrm>
            <a:off x="1332000" y="2701800"/>
            <a:ext cx="676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Dry island is ancient buffalo jump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is it called Dry Island Buffalo Jum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403280" y="2133720"/>
            <a:ext cx="610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Dry Island Buffalo Jump is so-named because of a flat-topped mesa called a "dry island" that rises 200 metres above the Red Deer River. In the distance you can see the grassy cliff-top of an ancient buffalo jump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human impact did you find at dry island buffalo ju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547640" y="2637000"/>
            <a:ext cx="63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FOOT PRI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OUTHOU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GARBA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15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515f7"/>
          </a:solidFill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on-human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403280" y="2205000"/>
            <a:ext cx="6193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Tre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the rive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buffalo bon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BIOTIC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IO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124000" y="2276640"/>
            <a:ext cx="6264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ocks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ater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irt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uffalo h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nd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n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ountains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3"/>
          <p:cNvSpPr/>
          <p:nvPr/>
        </p:nvSpPr>
        <p:spPr>
          <a:xfrm>
            <a:off x="4572000" y="274680"/>
            <a:ext cx="216000" cy="624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5"/>
          <p:cNvSpPr/>
          <p:nvPr/>
        </p:nvSpPr>
        <p:spPr>
          <a:xfrm flipV="1">
            <a:off x="755640" y="1557360"/>
            <a:ext cx="792000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What did the first nations use the buffalo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556000" y="265104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They used it for coats, spoons, knives, food, water bags and smoked there po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did this spot work so well as a buffalo ju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476360" y="256536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Being over 200 feet tall it will work for a buffalo jump. The first nations would herd the buffalo to the cliff and they would go of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inal impressions!?!?!?!?!?!?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476360" y="1638360"/>
            <a:ext cx="75596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700" spc="-1" strike="noStrike">
                <a:solidFill>
                  <a:srgbClr val="ffff00"/>
                </a:solidFill>
                <a:latin typeface="Calibri"/>
              </a:rPr>
              <a:t>BYE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9:43:13Z</dcterms:created>
  <dc:creator>Red Deer Public Teacher</dc:creator>
  <dc:description/>
  <dc:language>en-US</dc:language>
  <cp:lastModifiedBy>Red Deer Public Teacher</cp:lastModifiedBy>
  <dcterms:modified xsi:type="dcterms:W3CDTF">2012-10-01T19:30:44Z</dcterms:modified>
  <cp:revision>19</cp:revision>
  <dc:subject/>
  <dc:title>e</dc:title>
</cp:coreProperties>
</file>